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2564-E144-4ACA-8950-CAC32172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DA6C-AFC9-4C28-9AFD-2AF28E91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FB72-FBDC-48AD-94EA-E82C5560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FBAD-39CD-49FE-A79D-38180C33D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72B3-E259-4C57-BF9C-4185FAD1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CD91-368B-4F51-A92C-285C63C3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EE60-D9F9-4B4B-866C-515D02A9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B207-4F54-483D-A7AF-A4CEA1CA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7549-F52D-44A6-B4CC-46678E2A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4639-9406-4282-A4F9-44E42133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F8CC-52CB-41A7-89F2-6A69BFAA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D3EF-F4C1-4DE5-A8FA-5610DA4D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8DCA-7C83-4D50-A41A-4C6352EF6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550872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2664000" y="623880"/>
            <a:ext cx="3816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0" y="550872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2664000" y="623880"/>
            <a:ext cx="3816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550872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3557520" y="420840"/>
            <a:ext cx="2028960" cy="20271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"/>
          <p:cNvSpPr/>
          <p:nvPr/>
        </p:nvSpPr>
        <p:spPr>
          <a:xfrm>
            <a:off x="577800" y="2768760"/>
            <a:ext cx="7988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33"/>
                </a:solidFill>
                <a:latin typeface="Libre Franklin"/>
              </a:rPr>
              <a:t>WEC Camps </a:t>
            </a: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is a first class camping experience with Bible and missions teaching for young peop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Founded in 1948, WEC Camps have been providing young people with a life changing summer camping adventure for over 70 yea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33"/>
                </a:solidFill>
                <a:latin typeface="Libre Franklin"/>
              </a:rPr>
              <a:t> </a:t>
            </a:r>
            <a:r>
              <a:rPr b="1" lang="en-GB" sz="2200" spc="-1" strike="noStrike">
                <a:solidFill>
                  <a:srgbClr val="333333"/>
                </a:solidFill>
                <a:latin typeface="Libre Franklin"/>
              </a:rPr>
              <a:t>It is more than just a holiday, it could change your life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550872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3557520" y="420840"/>
            <a:ext cx="2028960" cy="20271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"/>
          <p:cNvSpPr/>
          <p:nvPr/>
        </p:nvSpPr>
        <p:spPr>
          <a:xfrm>
            <a:off x="577800" y="2768760"/>
            <a:ext cx="7988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WEC Camps are for young people from all backgrounds and have a strong basis of </a:t>
            </a:r>
            <a:r>
              <a:rPr b="1" lang="en-GB" sz="2200" spc="-1" strike="noStrike">
                <a:solidFill>
                  <a:srgbClr val="333333"/>
                </a:solidFill>
                <a:latin typeface="Libre Franklin"/>
              </a:rPr>
              <a:t>Christian and Mission teaching</a:t>
            </a: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At camp we emphasise the central aspects of the Christian faith along with our ethos of good times, good teachin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and good involve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550872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3557520" y="420840"/>
            <a:ext cx="2028960" cy="2027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577800" y="2768760"/>
            <a:ext cx="7988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33"/>
                </a:solidFill>
                <a:latin typeface="Libre Franklin"/>
              </a:rPr>
              <a:t>Warrior Camp</a:t>
            </a: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 offers fun, adventure and something deeper fo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all those aged 9 to 13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Everything on Warrior camp is designed to help young people explore God and faith, whilst enjoying some first class fu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The camp has a unique blend of activities, teaching from the Bible, and focus on world miss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550872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3557520" y="420840"/>
            <a:ext cx="2028960" cy="20271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577800" y="2768760"/>
            <a:ext cx="7988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33"/>
                </a:solidFill>
                <a:latin typeface="Libre Franklin"/>
              </a:rPr>
              <a:t>Teen Camp </a:t>
            </a: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is for 13 to 17 year olds who are looking for an exciting and meaningful way to spend their summer. 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With plenty of choice and a laid back style Teen camp offers a unique camping experience. There are always opportunities to discuss and express your views, learn more about God and how to live for Him, plus the choice of a wide range of activities, trips and games.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550872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3557520" y="420840"/>
            <a:ext cx="2028960" cy="2027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"/>
          <p:cNvSpPr/>
          <p:nvPr/>
        </p:nvSpPr>
        <p:spPr>
          <a:xfrm>
            <a:off x="577800" y="2768760"/>
            <a:ext cx="7988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33"/>
                </a:solidFill>
                <a:latin typeface="Libre Franklin"/>
              </a:rPr>
              <a:t>Join the WEC Camps 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33"/>
                </a:solidFill>
                <a:latin typeface="Libre Franklin"/>
              </a:rPr>
              <a:t> </a:t>
            </a: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To provide campers with an excellent holiday, we need great workers! Come and use your skills and gifts to help us create a fantastic camping experienc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Tent leader, kitchen team, maintenance, life guard, helper, prayer support, mission teacher, set up &amp; pack down crew, administration, Bible teacher, musicians and many more roles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0" y="550872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3557520" y="420840"/>
            <a:ext cx="2028960" cy="20271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"/>
          <p:cNvSpPr/>
          <p:nvPr/>
        </p:nvSpPr>
        <p:spPr>
          <a:xfrm>
            <a:off x="577800" y="2768760"/>
            <a:ext cx="7988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33"/>
                </a:solidFill>
                <a:latin typeface="Libre Franklin"/>
              </a:rPr>
              <a:t>What nex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33"/>
                </a:solidFill>
                <a:latin typeface="Libre Franklin"/>
              </a:rPr>
              <a:t> </a:t>
            </a: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Get in touch with WEC Camps today to find out mo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or to book your place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Discounts available for group booking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Visit: weccamps.or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Call: 01244 53793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0" y="550872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3557520" y="420840"/>
            <a:ext cx="2028960" cy="20271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"/>
          <p:cNvSpPr/>
          <p:nvPr/>
        </p:nvSpPr>
        <p:spPr>
          <a:xfrm>
            <a:off x="577800" y="2768760"/>
            <a:ext cx="7988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33"/>
                </a:solidFill>
                <a:latin typeface="Libre Franklin"/>
              </a:rPr>
              <a:t>Follow the action on social 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1155600" y="3508200"/>
            <a:ext cx="6832800" cy="1143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4"/>
          <p:cNvSpPr/>
          <p:nvPr/>
        </p:nvSpPr>
        <p:spPr>
          <a:xfrm>
            <a:off x="981000" y="451656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weccam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2897280" y="451656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weccam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4838760" y="451656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weccam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6729480" y="4516560"/>
            <a:ext cx="151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weccam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0" y="550872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3557520" y="420840"/>
            <a:ext cx="2028960" cy="20271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"/>
          <p:cNvSpPr/>
          <p:nvPr/>
        </p:nvSpPr>
        <p:spPr>
          <a:xfrm>
            <a:off x="577800" y="2827440"/>
            <a:ext cx="798840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33"/>
                </a:solidFill>
                <a:latin typeface="Libre Franklin"/>
              </a:rPr>
              <a:t>WEC Camp Video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ibre Franklin"/>
              </a:rPr>
              <a:t>WEC Camps in Pictures (33 second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s://www.youtube.com/watch?v=VgcAQxUneY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en Camp in 20 Secon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s://www.youtube.com/watch?v=EjaG2svOsY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23T15:57:48Z</dcterms:created>
  <dc:creator>Microsoft Office User</dc:creator>
  <dc:description/>
  <dc:language>en-US</dc:language>
  <cp:lastModifiedBy>Microsoft Office User</cp:lastModifiedBy>
  <dcterms:modified xsi:type="dcterms:W3CDTF">2019-08-23T16:30:02Z</dcterms:modified>
  <cp:revision>4</cp:revision>
  <dc:subject/>
  <dc:title>PowerPoint Presentation</dc:title>
</cp:coreProperties>
</file>